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1C7B-E3BD-4EC9-8C30-33886801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AF12-3AC6-40CD-AA03-BD2C4DF3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19D-F8DA-4B54-A23B-5A47C492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0DD-3971-430B-AF77-15B81C40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7C69-7D9A-41BF-9E42-0E6D72A5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974D-02C3-44FE-BAF4-BCDDB006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120-6834-446C-BB96-DD08DE60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C5EC-2052-4372-A921-E8689B7C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86F-383C-4C03-A36F-81A39FB0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633-2478-4C3D-826D-7D96A64D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4C37-1D8C-4D31-A377-34C3E0EB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152-7919-4584-B935-38CEF076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A3A33CF-EE26-459C-BDBA-ECDF67577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AVILON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v areálu spol. Veletrhy Brno, a. 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ODROBNÝ PRŮZKUM STÁVAJÍCÍ STŘECHY</a:t>
            </a:r>
            <a:r>
              <a:rPr b="1" lang="en-US" sz="1000" spc="-1" strike="noStrike">
                <a:solidFill>
                  <a:srgbClr val="ffffff"/>
                </a:solidFill>
                <a:latin typeface="Times New Roman C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19T07:58:01Z</dcterms:modified>
  <cp:revision>141</cp:revision>
  <dc:subject/>
  <dc:title>bez titulu</dc:title>
</cp:coreProperties>
</file>